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73EF-C06D-4142-9EF1-B8B75BBF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A411-0EB0-4017-8292-5FE2435BF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9BE1-F2C9-456A-8A02-438E4966E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174B-BF51-435C-81E9-DEBE50AF2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05E2-E83F-4D1A-AE0C-D247CCF36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F426-198F-458B-9269-7B46FC4BF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459B-BE93-41AA-BAF2-E2566E476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C3EE-FD5A-41FA-9534-BE046E43B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2250-DD08-4C9E-A274-2BEDA4FBA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1BA6-4975-48E6-A7E1-38C66CF8A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EC32-EAF4-4FE0-A019-F7F17D1A3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E556-75C1-4A71-B318-AA8BA781B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F30360-C025-4125-AC09-960F53BD4F5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NEO 2 – CW 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25360"/>
            <a:ext cx="525600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125360"/>
            <a:ext cx="331308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0560" y="1197000"/>
            <a:ext cx="3912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 an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tual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4880" y="1197000"/>
            <a:ext cx="2667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xt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1628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280" y="2077920"/>
            <a:ext cx="494172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1 decla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W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W (and ST) due to RIM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tatus very critical for NEO at 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scalation to MP board and CEO of 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ctual planning for EDS: 61K at 24.9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 Board and A1 Wing Board available and Service mode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349360"/>
            <a:ext cx="295272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M technical workshop and decision how to proceed with 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mechanical data to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1 Prototype /w servic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30T07:51:38Z</dcterms:modified>
  <cp:revision>98</cp:revision>
  <dc:subject/>
  <dc:title>No Slide Title</dc:title>
</cp:coreProperties>
</file>